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2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62BB-4A21-40BE-833B-4B9B39319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4C48-D1D6-4182-9E7C-AA3E57E5D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6A25-D33B-458D-A54F-3D9E62F7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5186-DC95-461F-8BCE-2FF6DA3C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03CF-CF58-422F-9AC9-34D23A9E7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2142-9A32-419B-8A97-71DC7998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C4AA-5A56-4CED-B1B4-E5B1604CA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25FF-6205-4856-BA90-548741216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8DB-A8B7-4618-92E8-04313348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B4F-D721-4A3B-B9B9-53E5379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840-D865-4188-8983-D52B3A60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7AA-4069-4DD1-9E74-379DA39B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06AD-2BDC-43E8-8906-8DF7629C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A457-D71B-4C81-B866-609D2F86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9EE7-402D-414A-86B6-1CEA8CDE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D430-B1AA-4CFF-91F8-A1DC8A77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7C20-13CA-4BEB-942D-6D46D6D8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9E7C-9E34-4BF5-86A2-67D297A9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8345-687A-4C2B-9188-33532A6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CB0-CA76-4145-A904-A379E0A6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4005-0E91-45DD-9978-71D7AE8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2F19-3B8C-4CE1-965B-74605B35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F683-3979-4F1D-BD18-6825EBF6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EDAB-1C71-4EF4-AD81-DC4BB4B9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D7D3-FF3D-4BDD-81A7-3277E9DF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B5D-7294-4B11-BEA8-7C163D7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49216-2326-4AE4-8785-95227C6C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58C71-AA77-4BE7-A1B1-F4F9592B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8D835-2129-49D1-9640-27895016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1AD-ED2A-4C15-8DC2-572D81D9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F6CFF-2359-4320-93BE-0549DC12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A6CF2-9D70-469D-B872-2EAD844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6ACE3-00FA-4536-A81E-B3992D31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769A6-7E1B-4AB5-83B3-5AE5536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58FAE-E2E0-4CEE-9FBA-507A9EE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B6B2F-4480-41EF-A63B-CFF33E47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8BBC8-A175-4A3E-8EDC-344ADDFC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5AFB3-E603-4C39-84E7-1A87DABE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E2096-1214-4F23-9436-CB150EBE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C2BF-DBBF-4B9F-A47F-EDF50B61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EE0-7309-4604-B2D5-9E3BD94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CB11-EC10-4B83-9410-6B4347C3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D34F-3423-495C-A189-CA2E9F29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8987-9644-4E05-A834-FE5CE858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5124-EF72-4BE2-9DD9-ECAAE735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8B93-A1D8-4DAB-9F8E-60E0C59E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4F7C-A75B-4886-A23C-8F2C2BA8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30F6-90BA-46E2-8E4F-D3AE20BE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1FF4-B68B-494B-B3D3-8BBF9A8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3BA8-3CE2-4E63-9D3A-77527F38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1513-1CE8-4200-80C3-F765029D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30E-CBFD-45DB-BB66-D5F3E0A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ECA7B-2E98-461B-A357-E0A303F6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E0F-9BF8-4C82-83C4-133B9F4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E96-AC00-4536-9DF4-6BA1A742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177-CFFB-4BFF-A674-A7EC786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E1A4-42FA-465C-A3B7-617226F9A3C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Picture 21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14300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0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238880" y="6172200"/>
            <a:ext cx="1752840" cy="507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3238-8E56-47AD-888D-1A21B54BC5A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1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143000" cy="331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1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143000" cy="331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4CEF-299D-4F62-9A26-85FE55D5ACF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1" descr=""/>
          <p:cNvPicPr/>
          <p:nvPr/>
        </p:nvPicPr>
        <p:blipFill>
          <a:blip r:embed="rId2"/>
          <a:stretch/>
        </p:blipFill>
        <p:spPr>
          <a:xfrm>
            <a:off x="7696080" y="6400800"/>
            <a:ext cx="1143000" cy="33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1E7D-15F6-4F9A-9B2D-977A0E076F0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nyric.wikispaces.com/" TargetMode="External"/><Relationship Id="rId2" Type="http://schemas.openxmlformats.org/officeDocument/2006/relationships/hyperlink" Target="http://www.p12.nysed.gov/technology/programs/techvouchers.html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dtech@mail.nysed.gov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setda.org" TargetMode="External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etda.or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omputer Based Testing Planning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Bandwidth Reference (SETDA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sic Connectivity for Supplemental Enrich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nternet research, e-mail, website, etc.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10 Kbps per student/teach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erging Reliance on Online Educational Tools and Resour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rtial 1-to-1 program, download video, dynamic content, collaboration, online assessments, etc.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50 Kbps per student/teach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formation to a Technology-Rich Learning Environ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Rich, multimedia-enhanced educational content, post content (audio and video) to learning management systems, e-textbooks, online assignments, etc.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100 Kbps per student/teach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pic>
        <p:nvPicPr>
          <p:cNvPr id="323" name="Content Placeholder 3" descr="Screen shot 2013-02-07 at 1.14.11 PM.png"/>
          <p:cNvPicPr/>
          <p:nvPr/>
        </p:nvPicPr>
        <p:blipFill>
          <a:blip r:embed="rId1"/>
          <a:srcRect l="0" t="1959" r="0" b="3035"/>
          <a:stretch/>
        </p:blipFill>
        <p:spPr>
          <a:xfrm>
            <a:off x="457200" y="595440"/>
            <a:ext cx="8229600" cy="55101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"/>
          <p:cNvSpPr/>
          <p:nvPr/>
        </p:nvSpPr>
        <p:spPr>
          <a:xfrm rot="19493400">
            <a:off x="-575280" y="2858400"/>
            <a:ext cx="1026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Formula breaks d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SETDA vs. Real World Experience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6" name="Content Placeholder 3" descr="Screen shot 2013-02-20 at 3.45.11 PM.png"/>
          <p:cNvPicPr/>
          <p:nvPr/>
        </p:nvPicPr>
        <p:blipFill>
          <a:blip r:embed="rId1"/>
          <a:srcRect l="309" t="0" r="92" b="0"/>
          <a:stretch/>
        </p:blipFill>
        <p:spPr>
          <a:xfrm>
            <a:off x="428760" y="1573200"/>
            <a:ext cx="8240400" cy="32623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490644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NYRIC real-world all you can consume model predicts a regional need of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3.5 Gbps by 2014-15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7.0 Gbps by 2017-18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525600" y="307512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NYRI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5 Gbp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50 Gbp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4022640" y="4254480"/>
            <a:ext cx="43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strict network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NYSED Report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: Board of Regents, FROM: John B. King, Jr. DATE: February 23, 20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chool Capacity.  A bandwidth of 100 megabits per second (100 mbps) [per building] is a recognized minimum standard by the Regional Information Centers (RICs)”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25320" y="2668680"/>
          <a:ext cx="7937640" cy="3655800"/>
        </p:xfrm>
        <a:graphic>
          <a:graphicData uri="http://schemas.openxmlformats.org/drawingml/2006/table">
            <a:tbl>
              <a:tblPr/>
              <a:tblGrid>
                <a:gridCol w="1330560"/>
                <a:gridCol w="1833480"/>
                <a:gridCol w="2505240"/>
                <a:gridCol w="22683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UD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20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TOTAL # OF BUILDING SIT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# OF REMOTE BUILDINGS WITH LESS THAN 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Georgia"/>
                          <a:ea typeface="Arial"/>
                        </a:rPr>
                        <a:t>% LESS THAN 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tate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,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9.06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WNYR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.35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TOTAL # T-1 AND 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TOTAL # &lt; 20 MBPS &amp; &gt; 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TOTAL # &lt; 100 MBPS &amp; &gt; 2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tate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WNY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pic>
        <p:nvPicPr>
          <p:cNvPr id="334" name="Content Placeholder 3" descr="Screen shot 2013-02-07 at 1.16.34 PM.png"/>
          <p:cNvPicPr/>
          <p:nvPr/>
        </p:nvPicPr>
        <p:blipFill>
          <a:blip r:embed="rId1"/>
          <a:srcRect l="0" t="40" r="0" b="30"/>
          <a:stretch/>
        </p:blipFill>
        <p:spPr>
          <a:xfrm>
            <a:off x="457200" y="684360"/>
            <a:ext cx="8229600" cy="5657760"/>
          </a:xfrm>
          <a:prstGeom prst="rect">
            <a:avLst/>
          </a:prstGeom>
          <a:ln w="0">
            <a:noFill/>
          </a:ln>
        </p:spPr>
      </p:pic>
      <p:sp>
        <p:nvSpPr>
          <p:cNvPr id="335" name="Rounded Rectangle 4"/>
          <p:cNvSpPr/>
          <p:nvPr/>
        </p:nvSpPr>
        <p:spPr>
          <a:xfrm>
            <a:off x="3452760" y="1574640"/>
            <a:ext cx="1886040" cy="146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NY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5"/>
          <p:cNvSpPr/>
          <p:nvPr/>
        </p:nvSpPr>
        <p:spPr>
          <a:xfrm>
            <a:off x="457200" y="1574640"/>
            <a:ext cx="2698920" cy="146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Monitor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Have two 10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urchase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8"/>
          <p:cNvSpPr/>
          <p:nvPr/>
        </p:nvSpPr>
        <p:spPr>
          <a:xfrm>
            <a:off x="6121440" y="1574640"/>
            <a:ext cx="2076480" cy="146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97 of 100 districts at 1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9"/>
          <p:cNvSpPr/>
          <p:nvPr/>
        </p:nvSpPr>
        <p:spPr>
          <a:xfrm>
            <a:off x="457200" y="3278160"/>
            <a:ext cx="1496880" cy="306396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3063960"/>
              <a:gd name="textAreaBottom" fmla="*/ 2990880 h 3063960"/>
            </a:gdLst>
            <a:ahLst/>
            <a:rect l="textAreaLeft" t="textAreaTop" r="textAreaRight" b="textAreaBottom"/>
            <a:pathLst>
              <a:path w="21600" h="44208">
                <a:moveTo>
                  <a:pt x="3600" y="0"/>
                </a:moveTo>
                <a:arcTo wR="3600" hR="3600" stAng="16200000" swAng="-5400000"/>
                <a:lnTo>
                  <a:pt x="0" y="40608"/>
                </a:lnTo>
                <a:arcTo wR="3600" hR="3600" stAng="10800000" swAng="-5400000"/>
                <a:lnTo>
                  <a:pt x="18000" y="442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461 of  477 buildings in region are connected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1 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ed Rectangle 10"/>
          <p:cNvSpPr/>
          <p:nvPr/>
        </p:nvSpPr>
        <p:spPr>
          <a:xfrm>
            <a:off x="2039760" y="3278160"/>
            <a:ext cx="1497240" cy="3063960"/>
          </a:xfrm>
          <a:custGeom>
            <a:avLst/>
            <a:gdLst>
              <a:gd name="textAreaLeft" fmla="*/ 73080 w 1497240"/>
              <a:gd name="textAreaRight" fmla="*/ 1424160 w 1497240"/>
              <a:gd name="textAreaTop" fmla="*/ 73080 h 3063960"/>
              <a:gd name="textAreaBottom" fmla="*/ 2990880 h 3063960"/>
            </a:gdLst>
            <a:ahLst/>
            <a:rect l="textAreaLeft" t="textAreaTop" r="textAreaRight" b="textAreaBottom"/>
            <a:pathLst>
              <a:path w="21600" h="44197">
                <a:moveTo>
                  <a:pt x="3600" y="0"/>
                </a:moveTo>
                <a:arcTo wR="3600" hR="3600" stAng="16200000" swAng="-5400000"/>
                <a:lnTo>
                  <a:pt x="0" y="40597"/>
                </a:lnTo>
                <a:arcTo wR="3600" hR="3600" stAng="10800000" swAng="-5400000"/>
                <a:lnTo>
                  <a:pt x="18000" y="44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District by district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heck your testing  are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11"/>
          <p:cNvSpPr/>
          <p:nvPr/>
        </p:nvSpPr>
        <p:spPr>
          <a:xfrm>
            <a:off x="3629160" y="3278160"/>
            <a:ext cx="1496880" cy="306540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3065400"/>
              <a:gd name="textAreaBottom" fmla="*/ 2992320 h 3065400"/>
            </a:gdLst>
            <a:ahLst/>
            <a:rect l="textAreaLeft" t="textAreaTop" r="textAreaRight" b="textAreaBottom"/>
            <a:pathLst>
              <a:path w="21600" h="44228">
                <a:moveTo>
                  <a:pt x="3600" y="0"/>
                </a:moveTo>
                <a:arcTo wR="3600" hR="3600" stAng="16200000" swAng="-5400000"/>
                <a:lnTo>
                  <a:pt x="0" y="40628"/>
                </a:lnTo>
                <a:arcTo wR="3600" hR="3600" stAng="10800000" swAng="-5400000"/>
                <a:lnTo>
                  <a:pt x="18000" y="44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ired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95% with 100 Mbps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12"/>
          <p:cNvSpPr/>
          <p:nvPr/>
        </p:nvSpPr>
        <p:spPr>
          <a:xfrm>
            <a:off x="7189920" y="3278160"/>
            <a:ext cx="1496880" cy="306540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3065400"/>
              <a:gd name="textAreaBottom" fmla="*/ 2992320 h 3065400"/>
            </a:gdLst>
            <a:ahLst/>
            <a:rect l="textAreaLeft" t="textAreaTop" r="textAreaRight" b="textAreaBottom"/>
            <a:pathLst>
              <a:path w="21600" h="44228">
                <a:moveTo>
                  <a:pt x="3600" y="0"/>
                </a:moveTo>
                <a:arcTo wR="3600" hR="3600" stAng="16200000" swAng="-5400000"/>
                <a:lnTo>
                  <a:pt x="0" y="40628"/>
                </a:lnTo>
                <a:arcTo wR="3600" hR="3600" stAng="10800000" swAng="-5400000"/>
                <a:lnTo>
                  <a:pt x="18000" y="44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W/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best practice  and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13"/>
          <p:cNvSpPr/>
          <p:nvPr/>
        </p:nvSpPr>
        <p:spPr>
          <a:xfrm>
            <a:off x="5373720" y="3278160"/>
            <a:ext cx="1496880" cy="306540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3065400"/>
              <a:gd name="textAreaBottom" fmla="*/ 2992320 h 3065400"/>
            </a:gdLst>
            <a:ahLst/>
            <a:rect l="textAreaLeft" t="textAreaTop" r="textAreaRight" b="textAreaBottom"/>
            <a:pathLst>
              <a:path w="21600" h="44228">
                <a:moveTo>
                  <a:pt x="3600" y="0"/>
                </a:moveTo>
                <a:arcTo wR="3600" hR="3600" stAng="16200000" swAng="-5400000"/>
                <a:lnTo>
                  <a:pt x="0" y="40628"/>
                </a:lnTo>
                <a:arcTo wR="3600" hR="3600" stAng="10800000" swAng="-5400000"/>
                <a:lnTo>
                  <a:pt x="18000" y="44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Look for rogue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Gear up for a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Wireles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PGothic"/>
              </a:rPr>
              <a:t>Challenge: laptops, netbooks, TABLE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Devices changing to ONLY wireles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Expectation to work as well as wired - NOT!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PGothic"/>
              </a:rPr>
              <a:t>Design challenges for RELI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Coverage, throughput, densit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Interference!!!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PGothic"/>
              </a:rPr>
              <a:t>Strategy: consult, plan, inv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WNYRIC has established a best practice design document, continuous updat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  <a:ea typeface="MS PGothic"/>
              </a:rPr>
              <a:t>Site surveys are ke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ontent Placeholder 3" descr="Screen shot 2013-02-07 at 1.16.52 PM.png"/>
          <p:cNvPicPr/>
          <p:nvPr/>
        </p:nvPicPr>
        <p:blipFill>
          <a:blip r:embed="rId1"/>
          <a:srcRect l="0" t="-984" r="0" b="0"/>
          <a:stretch/>
        </p:blipFill>
        <p:spPr>
          <a:xfrm>
            <a:off x="693720" y="615960"/>
            <a:ext cx="7751880" cy="5533920"/>
          </a:xfrm>
          <a:prstGeom prst="rect">
            <a:avLst/>
          </a:prstGeom>
          <a:ln w="0">
            <a:noFill/>
          </a:ln>
        </p:spPr>
      </p:pic>
      <p:sp>
        <p:nvSpPr>
          <p:cNvPr id="346" name="Rounded Rectangle 3"/>
          <p:cNvSpPr/>
          <p:nvPr/>
        </p:nvSpPr>
        <p:spPr>
          <a:xfrm>
            <a:off x="1752480" y="609480"/>
            <a:ext cx="56880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omputer Based Testing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Questions and information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ders and explan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 and 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Guidance from NYSE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mo – January 2013 – posted on </a:t>
            </a:r>
            <a:r>
              <a:rPr b="0" lang="en-US" sz="24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wiki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(www.wnyric.wikispaces.com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RCC Technology Guidelines v. 2.0 Dec 2012 and short vers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RT data entry and use – under revision (compare devices to cohort for now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nding guidance and PD op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crosoft settlement vouchers – from funds to lawsuit settled in 2006 (87 million unclaimed) </a:t>
            </a:r>
            <a:r>
              <a:rPr b="0" lang="en-US" sz="24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Vouch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redetermined by terms of the settlement: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875880" indent="-207720">
              <a:spcBef>
                <a:spcPts val="300"/>
              </a:spcBef>
              <a:buClr>
                <a:srgbClr val="ff99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F and R lunch %age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875880" indent="-207720">
              <a:spcBef>
                <a:spcPts val="300"/>
              </a:spcBef>
              <a:buClr>
                <a:srgbClr val="ff99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Only public schools  and Charters– no Non Pubs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he application </a:t>
            </a:r>
            <a:r>
              <a:rPr b="0" lang="en-US" sz="2000" spc="-1" strike="noStrike" u="sng">
                <a:solidFill>
                  <a:srgbClr val="438086"/>
                </a:solidFill>
                <a:uFillTx/>
                <a:latin typeface="Georgia"/>
              </a:rPr>
              <a:t>will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be part of the online voucher system which will be available in April 2013.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Vouchers can be used up until Nov. 1, 14 – partial or in ful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Technology Readiness Tool (TRT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plete the tool especially if you are getting Microsoft vouche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your district doesn’t have an authorized user or it needs to change email </a:t>
            </a:r>
            <a:r>
              <a:rPr b="0" lang="en-US" sz="24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edtech@mail.nysed.gov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iness does not mean readiness – check your “testing devices ready” against your largest cohorts in your testing bands for a better gauge of device gap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sting window – keep at 6 since PARCC just put in “testing starts” which has to do with the performance based testing 5 x /year and if you have less than 6 it wouldn’t make any sens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TRT – Continued….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CC is still working on it – they will have vendor go in and make a global change to testing window - # of days” when decided.  There is also another tool coming intended to determine a good testing window for a school build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re was a snapshot taken again on 2/15/1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twork indicator report TBD – if you go to recommended you will see it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The Testing Environment and Item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we don’t know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pacing between stud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esting accommodations for special needs/ELL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an multiple locations be used for a testing cohort?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Final decision on testing items – PARCC or NOT – Answer: The BOR must wait until both PARCC and CBT has more finality until they make a decision. (must see PARCC, 3-8 and Regents – very soonest would be winter 2013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ngs a district should think about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Where may be some logical locations?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How many special needs accommodations would you need? 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Questions already sent to NYSE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ommendations for headphones - districts supplying or parents providing due to sanitary reas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ES licensing – Can this be purchased through the voucher program for the software voucher? – Answer – We’ll know more in April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t out possibilities to still use pencil/paper?   Answer: No CBT police but do you believe that technology is an integral part of instruction moving forward. If yes; think strategically and make a plan. If gap is too large, NYSED may have to move target but won’t until earnest planning is don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Questions asked of NYSE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Questions for NYSE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Digital Activity Requirement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66" name="Content Placeholder 5" descr="Screen shot 2013-02-20 at 2.38.11 PM.png"/>
          <p:cNvPicPr/>
          <p:nvPr/>
        </p:nvPicPr>
        <p:blipFill>
          <a:blip r:embed="rId1"/>
          <a:srcRect l="-226" t="0" r="-241" b="-6737"/>
          <a:stretch/>
        </p:blipFill>
        <p:spPr>
          <a:xfrm>
            <a:off x="312840" y="2058840"/>
            <a:ext cx="8545320" cy="30416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52261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ource: The Broadband Imperative, p. 21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TDA, 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www.setda.or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Trebuchet MS"/>
            </a:endParaRPr>
          </a:p>
        </p:txBody>
      </p:sp>
      <p:pic>
        <p:nvPicPr>
          <p:cNvPr id="369" name="Content Placeholder 3" descr="Screen shot 2013-02-07 at 1.14.28 PM.png"/>
          <p:cNvPicPr/>
          <p:nvPr/>
        </p:nvPicPr>
        <p:blipFill>
          <a:blip r:embed="rId1"/>
          <a:srcRect l="2639" t="6607" r="0" b="55"/>
          <a:stretch/>
        </p:blipFill>
        <p:spPr>
          <a:xfrm>
            <a:off x="569880" y="569880"/>
            <a:ext cx="80121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um/recommended specif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um specification support ends 15/16 (Sept ‘14 end of life = Windows XP 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ARCC – says don’t use it after minimum standards end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WNYRIC  Support of Windows XP on shared network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placement cyc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ipherals (keyboards/microphones/headphon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1" name="Picture 2" descr="C:\Users\sprzywara\Pictures\CBT-Win7.jpg"/>
          <p:cNvPicPr/>
          <p:nvPr/>
        </p:nvPicPr>
        <p:blipFill>
          <a:blip r:embed="rId1"/>
          <a:stretch/>
        </p:blipFill>
        <p:spPr>
          <a:xfrm>
            <a:off x="838080" y="914400"/>
            <a:ext cx="609840" cy="668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sprzywara\Pictures\CBT-OSX Lion.jpg"/>
          <p:cNvPicPr/>
          <p:nvPr/>
        </p:nvPicPr>
        <p:blipFill>
          <a:blip r:embed="rId2"/>
          <a:stretch/>
        </p:blipFill>
        <p:spPr>
          <a:xfrm>
            <a:off x="1523880" y="838080"/>
            <a:ext cx="609840" cy="71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:\Users\sprzywara\Pictures\CBT-Ubuntu11.jpg"/>
          <p:cNvPicPr/>
          <p:nvPr/>
        </p:nvPicPr>
        <p:blipFill>
          <a:blip r:embed="rId3"/>
          <a:stretch/>
        </p:blipFill>
        <p:spPr>
          <a:xfrm>
            <a:off x="2133720" y="838080"/>
            <a:ext cx="685800" cy="690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przywara\Pictures\CBT-Fedora16.jpg"/>
          <p:cNvPicPr/>
          <p:nvPr/>
        </p:nvPicPr>
        <p:blipFill>
          <a:blip r:embed="rId4"/>
          <a:stretch/>
        </p:blipFill>
        <p:spPr>
          <a:xfrm>
            <a:off x="2895480" y="914400"/>
            <a:ext cx="533520" cy="536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C:\Users\sprzywara\Pictures\CBT-ChromeOS19.jpg"/>
          <p:cNvPicPr/>
          <p:nvPr/>
        </p:nvPicPr>
        <p:blipFill>
          <a:blip r:embed="rId5"/>
          <a:srcRect l="22197" t="0" r="24327" b="0"/>
          <a:stretch/>
        </p:blipFill>
        <p:spPr>
          <a:xfrm>
            <a:off x="5715000" y="91440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6" descr="C:\Users\sprzywara\Pictures\CBT-Headphones-Mic.jpg"/>
          <p:cNvPicPr/>
          <p:nvPr/>
        </p:nvPicPr>
        <p:blipFill>
          <a:blip r:embed="rId6"/>
          <a:srcRect l="29270" t="0" r="0" b="0"/>
          <a:stretch/>
        </p:blipFill>
        <p:spPr>
          <a:xfrm>
            <a:off x="6629400" y="5257800"/>
            <a:ext cx="1003320" cy="1295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7" descr="C:\Users\sprzywara\Pictures\CBT-Laptop.jpg"/>
          <p:cNvPicPr/>
          <p:nvPr/>
        </p:nvPicPr>
        <p:blipFill>
          <a:blip r:embed="rId7"/>
          <a:stretch/>
        </p:blipFill>
        <p:spPr>
          <a:xfrm>
            <a:off x="4876920" y="5638680"/>
            <a:ext cx="849240" cy="762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8" descr="C:\Users\sprzywara\Pictures\CBT-PC.jpg"/>
          <p:cNvPicPr/>
          <p:nvPr/>
        </p:nvPicPr>
        <p:blipFill>
          <a:blip r:embed="rId8"/>
          <a:stretch/>
        </p:blipFill>
        <p:spPr>
          <a:xfrm>
            <a:off x="2971800" y="5486400"/>
            <a:ext cx="987480" cy="762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9" descr="C:\Users\sprzywara\Pictures\CBT-RAM.jpg"/>
          <p:cNvPicPr/>
          <p:nvPr/>
        </p:nvPicPr>
        <p:blipFill>
          <a:blip r:embed="rId9"/>
          <a:stretch/>
        </p:blipFill>
        <p:spPr>
          <a:xfrm>
            <a:off x="1219320" y="2362320"/>
            <a:ext cx="685800" cy="498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1" descr="C:\Users\sprzywara\Pictures\CBT-Resolutions.jpg"/>
          <p:cNvPicPr/>
          <p:nvPr/>
        </p:nvPicPr>
        <p:blipFill>
          <a:blip r:embed="rId10"/>
          <a:stretch/>
        </p:blipFill>
        <p:spPr>
          <a:xfrm>
            <a:off x="4495680" y="2286000"/>
            <a:ext cx="762120" cy="625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2" descr="C:\Users\sprzywara\Pictures\CBT-iOS6.jpg"/>
          <p:cNvPicPr/>
          <p:nvPr/>
        </p:nvPicPr>
        <p:blipFill>
          <a:blip r:embed="rId11"/>
          <a:stretch/>
        </p:blipFill>
        <p:spPr>
          <a:xfrm>
            <a:off x="6934320" y="838080"/>
            <a:ext cx="685800" cy="63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3" descr="C:\Users\sprzywara\Pictures\CBT-AndroidIceCreamSandwich.jpg"/>
          <p:cNvPicPr/>
          <p:nvPr/>
        </p:nvPicPr>
        <p:blipFill>
          <a:blip r:embed="rId12"/>
          <a:stretch/>
        </p:blipFill>
        <p:spPr>
          <a:xfrm>
            <a:off x="6324480" y="762120"/>
            <a:ext cx="609840" cy="725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4" descr="C:\Users\sprzywara\Pictures\CBT-Win8.jpg"/>
          <p:cNvPicPr/>
          <p:nvPr/>
        </p:nvPicPr>
        <p:blipFill>
          <a:blip r:embed="rId13"/>
          <a:stretch/>
        </p:blipFill>
        <p:spPr>
          <a:xfrm>
            <a:off x="7696080" y="838080"/>
            <a:ext cx="617760" cy="609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0" descr="C:\Users\sprzywara\Pictures\CBT-ScreenSize.jpg"/>
          <p:cNvPicPr/>
          <p:nvPr/>
        </p:nvPicPr>
        <p:blipFill>
          <a:blip r:embed="rId14"/>
          <a:stretch/>
        </p:blipFill>
        <p:spPr>
          <a:xfrm>
            <a:off x="2590920" y="2286000"/>
            <a:ext cx="990360" cy="577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Users\sprzywara\Pictures\CBT-BluetoothKeyboard.jpg"/>
          <p:cNvPicPr/>
          <p:nvPr/>
        </p:nvPicPr>
        <p:blipFill>
          <a:blip r:embed="rId15"/>
          <a:srcRect l="6164" t="8346" r="13840" b="8346"/>
          <a:stretch/>
        </p:blipFill>
        <p:spPr>
          <a:xfrm>
            <a:off x="914400" y="5562720"/>
            <a:ext cx="1066680" cy="820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5" descr="C:\Users\sprzywara\Pictures\CBT-NICCard.jpg"/>
          <p:cNvPicPr/>
          <p:nvPr/>
        </p:nvPicPr>
        <p:blipFill>
          <a:blip r:embed="rId16"/>
          <a:stretch/>
        </p:blipFill>
        <p:spPr>
          <a:xfrm>
            <a:off x="6629400" y="2209680"/>
            <a:ext cx="838080" cy="6876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Device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Device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ngs for districts to think abou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nning for devi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vice Spacing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Pad Mini, Kindle, and Smartphones = not supported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vice Continuity (i.e. user familiarity with device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Keyboarding skills and instruct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pares?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ssible tools to think of us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EM Reporting – for asset discovery (provided in energy grant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N Computing – multiple keyboards/devic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oneware/Classlink  – virtual desktop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Use the MS Settlement $ if listed to receiv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00" name="Picture 5" descr="C:\Users\sprzywara\Pictures\CBT-Crystal Ball.jpg"/>
          <p:cNvPicPr/>
          <p:nvPr/>
        </p:nvPicPr>
        <p:blipFill>
          <a:blip r:embed="rId1"/>
          <a:stretch/>
        </p:blipFill>
        <p:spPr>
          <a:xfrm>
            <a:off x="1523880" y="609480"/>
            <a:ext cx="1257480" cy="990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C:\Users\sprzywara\Pictures\CBT-Key-CrystalBall.jpg"/>
          <p:cNvPicPr/>
          <p:nvPr/>
        </p:nvPicPr>
        <p:blipFill>
          <a:blip r:embed="rId2"/>
          <a:stretch/>
        </p:blipFill>
        <p:spPr>
          <a:xfrm>
            <a:off x="6629400" y="4952880"/>
            <a:ext cx="1600200" cy="1006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C:\Users\sprzywara\Pictures\CBT-Unique.jpg"/>
          <p:cNvPicPr/>
          <p:nvPr/>
        </p:nvPicPr>
        <p:blipFill>
          <a:blip r:embed="rId3"/>
          <a:stretch/>
        </p:blipFill>
        <p:spPr>
          <a:xfrm>
            <a:off x="6781680" y="990720"/>
            <a:ext cx="1447920" cy="1191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C:\Users\sprzywara\Pictures\CBT-TestSpace.jpg"/>
          <p:cNvPicPr/>
          <p:nvPr/>
        </p:nvPicPr>
        <p:blipFill>
          <a:blip r:embed="rId4"/>
          <a:stretch/>
        </p:blipFill>
        <p:spPr>
          <a:xfrm>
            <a:off x="7391520" y="3124080"/>
            <a:ext cx="135864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Device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paration to think about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arging op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st  battery  lif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uidance and what can districts do toda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Budget to buy batteries/spares/charger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Budget for network wired/wireless connection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ecurity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Lock Down Policies (i.e. GPO,zenworks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ARD,Supervise/MDM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Georgia"/>
              </a:rPr>
              <a:t>Content Filtering - Ron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306" name="Picture 3" descr="C:\Users\sprzywara\Pictures\CBT-WiFi.jpg"/>
          <p:cNvPicPr/>
          <p:nvPr/>
        </p:nvPicPr>
        <p:blipFill>
          <a:blip r:embed="rId1"/>
          <a:srcRect l="16658" t="16996" r="16733" b="0"/>
          <a:stretch/>
        </p:blipFill>
        <p:spPr>
          <a:xfrm>
            <a:off x="6705720" y="3809880"/>
            <a:ext cx="609480" cy="744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C:\Users\sprzywara\Pictures\CBT-ElecPlug.jpg"/>
          <p:cNvPicPr/>
          <p:nvPr/>
        </p:nvPicPr>
        <p:blipFill>
          <a:blip r:embed="rId2"/>
          <a:stretch/>
        </p:blipFill>
        <p:spPr>
          <a:xfrm>
            <a:off x="3809880" y="2057400"/>
            <a:ext cx="1371600" cy="1022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C:\Users\sprzywara\Pictures\CBT-PCLockdown.jpg"/>
          <p:cNvPicPr/>
          <p:nvPr/>
        </p:nvPicPr>
        <p:blipFill>
          <a:blip r:embed="rId3"/>
          <a:stretch/>
        </p:blipFill>
        <p:spPr>
          <a:xfrm>
            <a:off x="4038480" y="5410080"/>
            <a:ext cx="1062000" cy="692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4" descr="C:\Users\sprzywara\Pictures\CBT-Batteries.jpg"/>
          <p:cNvPicPr/>
          <p:nvPr/>
        </p:nvPicPr>
        <p:blipFill>
          <a:blip r:embed="rId4"/>
          <a:stretch/>
        </p:blipFill>
        <p:spPr>
          <a:xfrm>
            <a:off x="6248520" y="4952880"/>
            <a:ext cx="1307880" cy="1067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5" descr="C:\Users\sprzywara\Pictures\CBT-BatteryTest.jpg"/>
          <p:cNvPicPr/>
          <p:nvPr/>
        </p:nvPicPr>
        <p:blipFill>
          <a:blip r:embed="rId5"/>
          <a:srcRect l="0" t="0" r="0" b="17049"/>
          <a:stretch/>
        </p:blipFill>
        <p:spPr>
          <a:xfrm>
            <a:off x="6629400" y="2590920"/>
            <a:ext cx="1390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Lightspeed Content Filtering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685800" y="1371600"/>
            <a:ext cx="784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sure you are upgraded to the “Next Generation Suite”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Bind your filtering to your 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Create a PARCC Rul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Filter based upon the following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IP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Computer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Us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Us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User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Web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Arial"/>
              </a:rPr>
              <a:t>A Web Zone is a vehicle for controlling classroom Internet access beyond assigned Web Filter policies. With a Zone, a teacher can completely shut off Internet access, limit access to just a few web sites, or open access beyond normal Web Filter poli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Fixed Zones - by IP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Open Zones -  Zone Managers, create them, populate them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content and then activate them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Network Objective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view national studies and “recommended” practic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here is a lot of attention focused on Broadband acces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Consortium for School Networking (COSN)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State Educational Technology Directors Association (SETDA)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late what has/is happening in WNY to the national scen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angible results through everyone’s effor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Regional collaboration to leave no district behin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rovide a framework for meeting the infrastructure demands of online assessment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Some Statistic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80% of schools in the country lack adequate broadband to meet education and business needs today” (COS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:1 ratio of students to devices will drive the need for additional bandwidth as BYOD grows in schools” (COS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ore likely to see 3:1 ratio of devices to stud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hanced technologies will drive bandwidth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How Much Internet (SETDA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e useful metric is </a:t>
            </a:r>
            <a:r>
              <a:rPr b="0" i="1" lang="en-US" sz="2800" spc="-1" strike="noStrike">
                <a:solidFill>
                  <a:srgbClr val="008000"/>
                </a:solidFill>
                <a:latin typeface="Georgia"/>
              </a:rPr>
              <a:t>bandwidth-per-student/teac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which directly correlates with the quality of a student’s online experienc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It defines a framework for assessing bandwidth requirements based on what the users, both students and teachers, truly need to engage in … internet activity”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ders must consider </a:t>
            </a:r>
            <a:r>
              <a:rPr b="0" lang="en-US" sz="2800" spc="-1" strike="noStrike">
                <a:solidFill>
                  <a:srgbClr val="008000"/>
                </a:solidFill>
                <a:latin typeface="Georgia"/>
              </a:rPr>
              <a:t>the number of concurrent and peak connection tim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schools when evaluating their broadband need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Source: The Broadband Imperative, p. 21 SETDA,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www.setda.org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lnSpc>
                <a:spcPct val="80000"/>
              </a:lnSpc>
              <a:spcBef>
                <a:spcPts val="300"/>
              </a:spcBef>
              <a:buClr>
                <a:srgbClr val="ffc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TextBox 3"/>
          <p:cNvSpPr/>
          <p:nvPr/>
        </p:nvSpPr>
        <p:spPr>
          <a:xfrm rot="19252200">
            <a:off x="733680" y="1929240"/>
            <a:ext cx="787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Good concep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Needs refin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14:10Z</dcterms:created>
  <dc:creator>Candace Reimer</dc:creator>
  <dc:description/>
  <dc:language>en-US</dc:language>
  <cp:lastModifiedBy>E1 Staff</cp:lastModifiedBy>
  <dcterms:modified xsi:type="dcterms:W3CDTF">2013-03-15T15:09:21Z</dcterms:modified>
  <cp:revision>140</cp:revision>
  <dc:subject/>
  <dc:title>Slide 1</dc:title>
</cp:coreProperties>
</file>